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258-4415-4707-813C-A314D7F1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09D-3F57-4A9C-B1F2-CB8F06D5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B42-9A61-46BC-8151-C307359B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912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1264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8560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74912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1264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942-64A2-40C4-8ABF-B88421D2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7A7A-1151-4BFB-8AC2-3CCFD8FF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9E4C-3EA8-4CF8-8C6C-3E653357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9DAD-C893-46F8-A0F3-2DAD5501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1601-1B9D-460C-9104-21BF0E59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6AF4-A874-4ED9-BFC8-BB711FFB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747B-8A5F-4070-BCA3-46EC27D6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320D-14D0-46CD-8887-64835D96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AFB-4666-4DC5-8A38-65F0D568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13DC-6435-4C07-8C02-ABAECEF9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AFB7-BDFD-40E8-ACA8-82BEB13D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1017-A3A4-4D5F-9096-3B2D2C27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ED84-2FC1-4D80-9C57-0B6AED7C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912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1264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68560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74912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1264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1552-1FDE-4F5D-910D-8F9DB469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648-AEE3-4CA5-BD8E-A47DC927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53E-7EC7-40B4-B3FF-56DB5D02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FB1-693C-4F61-8C00-C4B3E8B5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E47-7A5F-45CA-A436-AEB37EA4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C47-249F-4B05-97FC-83F314E1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07C-43E2-4001-8F6F-E15937DB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A84-2BB7-4C74-8B82-928C72E4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79D4-503A-455B-86A3-9BEB8F5E76DA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B007-C2EF-4B8C-9338-64BBEE1A44F8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does the word leukemi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n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y :Zach Konieczn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ukem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. An unpleasant thing to look 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ukem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. A disease in which too many white blood cells are form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ukem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. Mental illness in which a person acts or talks in a wild w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ukem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. An unpleasant thing to look a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. A disease in which too many white blood cells are forme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. Mental illness in which a person acts or talks in a wild wa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ukem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correct answer is……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A disease in witch too many white blood cells are form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image11_s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anks for watching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12:26Z</dcterms:created>
  <dc:creator>Zach</dc:creator>
  <dc:description/>
  <dc:language>en-US</dc:language>
  <cp:lastModifiedBy>Zach</cp:lastModifiedBy>
  <dcterms:modified xsi:type="dcterms:W3CDTF">2010-11-09T14:48:19Z</dcterms:modified>
  <cp:revision>7</cp:revision>
  <dc:subject/>
  <dc:title>What does the word leukemia Mean?</dc:title>
</cp:coreProperties>
</file>